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86C0-D9CE-46C7-96ED-40BC3F0E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AAD5-AD40-4712-AD41-2561B8C6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FC09-5E92-42FE-811F-8790D5B7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5B7A-AC65-474A-9CCA-9B585936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BE6F-5448-4451-9D4D-050B91EC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19AA-F4FC-4976-A18D-702B6CF1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A0D2-B78B-44E4-9A4C-0A852C7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D862-AC33-4DEC-A172-05B5C1CB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A09B-DF65-4089-A62A-52D9CBAF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2F49-70AF-45EB-BA20-F4994BC3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1657-6475-494A-8247-BD18C66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279C-4856-43AD-9C30-C7B3522A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5967-E005-494C-8676-F475E806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838F-CEA3-4DC1-9213-831202A4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204E-8724-444B-96ED-F106641E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653D-783E-429E-BEB0-4973043D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2386-A769-458A-8AE7-3FC7B929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FFCA-EC93-4293-8836-476BDFDD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D95D-8A71-4E19-BA86-98ED6137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FF3B-40AB-4076-AF7E-1D1C298F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F4D9-4E80-45A8-8E50-82852BD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2511-C20A-46A6-BD8D-349C5BB6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EB3B-8E6B-4799-B906-03D8504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2B3E-2680-4F09-B917-C5605227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B4FD-113D-4C4C-8941-C1B4DCDC467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44BF-A7A3-4D6C-872D-A52961D0EFB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0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98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Корабът мой все плу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окойно и безспир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ъде ли той пътув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страна на вечен ми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гордо се люле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д бурните въл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него флаг се ве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ам Господ Бог е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3064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 Аз виждам отдалеч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лести небесни й ф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чи съзират веч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славний Божи дар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жилища небес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гда, во век веков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 пеят славни пес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Господа - Люб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208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В тоз път ме придружава Спасителят блаж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тъй ме утеш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ай-скръбния ми д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акар и облак чер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мене слънце кри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одител е Той вер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ен в рай ще заве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6:06Z</dcterms:modified>
  <cp:revision>137</cp:revision>
  <dc:subject/>
  <dc:title>Slide 1</dc:title>
</cp:coreProperties>
</file>